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87F-4646-4590-8107-3467B06B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BA9-521A-40D2-BD76-55D732AE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4E3-E308-4C87-A5EF-262B9EEFF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607-EF4A-4BC0-A1CC-355021BB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053-2071-4449-869F-4406B343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AC5-9606-4D35-9119-C34AA142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C77-956D-4689-929C-C3B77C3F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F68-6648-491E-BE6B-62EF068F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CEC-55EB-4645-B087-C83609B8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32D0-C479-4D00-8890-8D8E7850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B75-7148-4965-BC79-597AA3A9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38F-968D-46D8-BE8A-9E68600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1C25-E4E9-4CBC-AA0A-5C7A9C6A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o Now 10-15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 can define the meaning of unknown words and learn (being) verb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8951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pell the following word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144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191120" y="4572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7238880" y="46483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0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ck Spelling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dd a suffix (that begins with a vowel like –ing or –ed) and the word ends in “e”, drop the “e” and add the suffi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971800"/>
            <a:ext cx="45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584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4280" y="29718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8680" y="297180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981080" cy="1433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3840" y="405432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560" y="4038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14760" y="39783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7280" y="40384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13480" y="496872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95288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59200" y="495288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5520" y="4876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988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25 0.00232 L -0.18125 0.00232 E">
                                      <p:cBhvr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82659E-007 L -0.21458 0.00231 E">
                                      <p:cBhvr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94 0.01341 L -0.20139 0.01341 E">
                                      <p:cBhvr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35 -0.02292 C 0.11372 -0.09051 0.09844 -0.15811 0.08803 -0.18843 C 0.07744 -0.21875 0.02379 -0.15186 0.06702 -0.20463 C 0.1106 -0.25741 0.28421 -0.52755 0.34827 -0.50579 C 0.41233 -0.48403 0.58594 -0.06482 0.45174 -0.07361 C 0.31754 -0.08241 -0.42083 -0.5713 -0.45694 -0.55857 C -0.49305 -0.54584 0.15817 -0.09074 0.23455 0.00231 C 0.31077 0.09537 0.03907 0.00046 8.33333E-006 3.7037E-006 E">
                                      <p:cBhvr>
                                        <p:cTn id="73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B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ING VERB LESS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1:10:34Z</dcterms:created>
  <dc:creator>Administrator</dc:creator>
  <dc:description/>
  <dc:language>en-US</dc:language>
  <cp:lastModifiedBy>Administrator</cp:lastModifiedBy>
  <dcterms:modified xsi:type="dcterms:W3CDTF">2010-10-15T12:24:47Z</dcterms:modified>
  <cp:revision>12</cp:revision>
  <dc:subject/>
  <dc:title>Do Now 10-15 I can define the meaning of unknown words and sounds words out. </dc:title>
</cp:coreProperties>
</file>